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991-AE8D-4428-92A1-4186661C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85B-DB3C-4AC5-AA4A-576C64F3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201A1-FB4B-4083-9BF9-AA4CB62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4E5AB-D1F6-43FC-9553-29C993F5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F444A-39F7-41E5-A71D-CF2010EC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74CD2-1D44-44B7-87A0-996844A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93422-D85A-40EE-A728-3F55F2B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73DA2-56E4-4DD2-B8F9-4144007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FF98-7B75-4F22-9F9F-2DD4B3B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C2F1E-EEAC-4C91-AA8F-247F3D98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2D119-807C-4131-B039-ACFD4DDB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21C2D-2E8C-4C56-9EBC-E630409B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D38-8290-4ECB-81C8-0B99ED16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AA163-89D6-417E-9ABF-F02A45E0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DE579-0124-4E82-AB33-16550182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E06A9-5EBB-4D53-8512-420932B5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1BD23-AF55-4B8E-80E0-EC049CA6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6D8B5-2266-43D0-BDCB-C6CEFD9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0E002-00AA-4E3C-BA25-00ABDB0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569AF-F627-47FA-A3DA-F742307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5CE0A-C8C0-41DF-957F-107BBE8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83748-1139-4D13-B606-E661BBA2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5EEB-E453-4A27-9F3E-9F842061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32B-6468-4C75-BF7C-F98F2F3C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394B7-BDD8-4921-9D30-6D4EFCD3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6647-97B4-4028-B05D-E5637F0B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871A6-67F3-44EA-95E9-A05ADE81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4864-8F8F-467D-A042-32990B4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0FF56-50A4-4233-8AD7-3AB7C61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FF679-4FF2-491D-AE3B-405A77FB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32590-1D1D-4F38-8855-ACCEA612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37969-8940-4634-B897-55CDB466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E8480-EF0E-40C2-AB89-1EC62C1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04C7E-EA5F-466D-824F-ED1B411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8F0E-9CFE-45A2-98D8-8AA14BC9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02B53-FB72-46F5-850A-7FAA5B46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4F5E1-4843-470B-8F44-6775EE24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ACA33-D972-4C80-A671-6FE33FBC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BC45F-AF39-49C4-9913-11486EFA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6EC27-CF3A-41DD-B18E-252CFF1C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F5304-43E6-4C27-BB86-32AB6A13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E188C-E197-4168-ADA4-36AC8466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8AA16-A783-4E20-BD9C-E8D06C4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1612A-7EF5-4071-BA1E-7BB673A2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BE091-5F7D-43BD-94C4-A1CA37B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7223-7FDB-4936-A7C3-AC52E1C4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38DF3-B797-443B-96A8-CFE51D5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D1905-D856-4AD1-863A-37765AC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3CB83-9558-42DD-9096-3A0566E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7F8BA-B57F-4E3B-BC0C-F83980E6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FB0F-38C6-430A-A7E6-06076768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A28A1-B4EB-41AE-B2B8-1A947722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2D61E-660B-4BF5-8D84-8EE8B0DE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EF460-60E0-4E1D-B3AD-4BCD646C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8E7A0-1AFC-4253-80B1-461AD886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48909-CFDB-4BEE-B68D-FD6F261C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7CF9-F05B-4A93-A99D-6DCACA11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9A600-AEB0-4842-AFAD-A539841C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F61DD-B791-48B5-968A-2957644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9E8AD-3640-4779-9662-8F25441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8C27D-F2FA-4B01-A2DE-0702717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56999-96D3-4517-B96F-87E68028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AAE2E-961F-4A68-92F8-0E444215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3FF95-10C6-493E-8414-9B426ECE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CE828-2502-4A86-936D-D0D9A882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718B9-EAC8-40C6-BA33-DB884124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A5337-43D9-4221-8E8F-F08B4C8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DF4-3B27-4283-950B-498E9F2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53DA6-187A-453F-B363-3CF906E4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0D951-FD3F-497D-84BC-626CD82D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B6996-1777-4B52-BDB7-3896F50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896C3-91FA-4A83-9607-7F58939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60917-A2ED-4881-89AF-AB18B82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C8920-DD49-456E-9B46-A71D759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DD902-6D12-43ED-8659-0FF60B50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18C5F-14CF-4278-A316-77BC8FB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A6EBD-972F-4E40-A959-7652F837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B6C21-F79A-46E2-B79B-9C39BAF7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C502-3A22-4874-AAE4-0AFA475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05BA1-D305-49DC-815A-B797C490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6C4BD-5826-413C-81C5-76FAFC04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76852-F160-4284-9983-A0A1277A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9F676-0575-4C4E-B9D4-A4C6D49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7FB97-6D8A-4A38-B0FB-0849506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C6841-DA77-4E1D-A4AA-86E3DA5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6274D-6F6E-49EA-85F9-D191B643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EFA6C-CE10-4DA2-9238-80AB971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A2DBF-C9FE-4BE1-BEF4-FAAAF711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94337-FCF0-45D6-9067-1DB12B11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CB68-141A-46C4-87DB-DE888EB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1682C-0E1E-4BEE-9EB9-C2C39D9C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24F48-35E9-4A4E-8372-B76666F1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60F6E-782A-45AE-9369-77D5AE30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1770A-A36A-48E2-A626-CF0BB986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99B10-150A-4788-B147-2CECEA2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A3679-C4A2-4B5B-8B17-B6800513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86CC0-9E5A-4897-80DB-C39D69B7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878E1-7AE5-48B4-951E-7BF5F58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E1D3A-D209-46E3-B828-35CFEB18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ACD2C-6B21-4B77-9D73-4B80ACF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443-DF4F-4F0C-B163-4DF07E5A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D3AA5-40FE-43C8-8475-F6B053A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EAC18-4D50-42C2-84E4-25EBFB6B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FF6A1-380D-4BD5-9BFB-F93AFA7A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D80A7-FC1F-42A8-98B2-F33BCEAE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EE5CF-2DFA-4EF9-9132-5FB23EE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4A70C-0E03-4D1C-8A06-C61F2CBE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A50E7-C8A8-4BA7-8097-7411BC5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E5156-6E6F-4560-83AB-03719E1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54318-2759-4EB6-B5C9-C1D6DB05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349E4C-DABC-41F8-ABD8-8E41971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E2A-A9D7-4ED1-B943-66184441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EA9F-3CF4-43D6-B9E4-CDC92F7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4F7D2-51F9-4B34-877B-939A9DE5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21B10-DD2D-4901-9ED7-45E08DB9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A8269-1459-4DFD-893B-632BC8B5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C6958-8116-4D05-987C-2E2A64F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919BB-EADD-4CB5-B18D-9C0856C0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BEA42-20BD-458B-9B32-B4B245D0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1E8AD-65E3-496E-A3E2-834211B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8B463-9323-448B-956D-5FDAEF96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6541D-1BAA-4C4A-B02C-2CF14BCF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8EA25-6CC6-42C5-84AA-07A0857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3EFD-5490-464A-A45C-65DF338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8F36D-B2AA-42E9-8134-2FF85D39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FA2FB-7695-426F-AEF8-DD631B7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437A1-5D18-4BF1-B5C3-0A2AB86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98F08-4A67-4854-A972-6EC7F83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ACED9-1360-44A2-BD11-3ACFBA32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13B23-602C-4385-B29C-4C338FDC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B7AC1E-36AA-4B90-B21F-9405B571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AEB16-8D65-4588-B0CB-98780228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9A634-4251-4AFC-8517-137CBE4C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FCC9A-0503-4AF7-A8DC-1E211AA1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FCAB-32D9-4742-808B-7C11935E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9F51B-2D97-42FA-91D3-1781844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9483D-1471-415C-B500-02E218F0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F3B4D-5482-49A2-BEC2-14615414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9C2D45-14EE-442C-90B6-1E05CDD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FFAA9E-B35A-4F90-A44E-DEE2493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E731C-8964-418F-84D5-C1FDD17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967BD-DD6E-4BE9-AD35-A566CE34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17740-168D-4509-8AD8-6C701FC4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2D87B-2E15-4BC5-8152-E3650B8B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81D96-66E1-41C1-B9E3-11EF7F5F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6E1D-F324-4541-9404-D564899B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CB9F5-D5D0-4B3A-9D83-4AA554C3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A32DC-D282-4AC8-ADA8-1C5B1EF6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95261-6D40-4DBF-AF53-4E5C5EFA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F006A-E19D-4DF1-8EDE-C3F33AB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22053-D70B-4F2D-8BDC-E1BB3BBB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C0975-631F-475C-B2F3-6F24616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D005D-81B0-4440-B86C-F733134A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7C057-3474-4452-BCD9-865F69E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E51CB-B65F-4D44-8FF4-D552954E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81D96-F663-4ABE-BF3C-0D3BE8AF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A206-4941-441A-81CA-9D9D85BB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C0D20-CAC5-490D-9EA7-ECF2A53E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08ABB-10FA-469C-B3D0-2775303F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E0AA4-38E2-4C45-9CB3-70AFBEDC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D6A62-C9F5-4788-A990-25D21E6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9A468-813F-49F4-9B17-DCF171B7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A0575-6AC9-4020-B1CF-6824E1B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40687-7139-4733-82DB-99A7150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D9572-B7C9-443B-91E0-0A44705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2D8F9-81CD-4492-BB99-1455655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793A6-3572-4FBB-A5B3-52EE039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F31D-1514-45F5-9BFE-1C59B953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8C762E-843E-4F91-ABDF-01F45D5B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00594-8F5C-4985-86EA-A03288C3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A9940-A666-4580-9112-ED3FE5C4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316F-BFCB-46CC-8FB1-CF176570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B0CC-DD13-4EAA-9FD1-61B8D6EF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766E-C7F8-4BF2-ACA5-7C2F22A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F596-AA31-41FC-8E11-05CCCE7B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134-B335-42B7-B5FD-4E05E69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5C61-7B7F-4F33-B27B-4DE4A053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E442-6817-47A0-AE12-77B2826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39E7-7718-4400-87FA-79D5BBB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2CDE-D28A-41F7-8576-051651B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105F-90C8-43B6-B481-96B45EC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23AF-6EAF-4E75-89B0-7F621037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0710-05B5-4429-BC65-FD62BC6F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8430-4DF0-4EAE-BB52-8A3DFDEA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8CAD-4AB0-4E72-A86B-4369C5AB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8E28-B29C-46C9-AF6C-7D222BF4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7FF-623A-4671-ACD9-1897B8B7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8E14-E027-4250-ADD1-36A4272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9553-B1EB-49DD-B26E-3BC3117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BDCC-D7B5-4281-8228-7A3FDE8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41B4-6A49-4D1C-AEE6-72CD0CA6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9011-F5B6-4DEB-BFC4-23EAFA9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5648-DB39-4C0D-A636-368AF59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FFCA-8A47-474F-B172-040ED4A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910D-2685-4676-82B6-B5B29B2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5DE9-F9D0-4415-905A-F94D247F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CDE9-36B4-4C79-B95E-E7E1C2F1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37D-629F-4C8B-88C2-4D2426CA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6C2B-6884-4326-AE5E-1CFCF4A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4458-8B97-4E87-AEE9-AD2946F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7F3D8-6510-47CD-876F-C16F76B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DFF36-25FE-4801-AC94-881A76D5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D50C-039B-450C-8FD4-F7E8BA80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95163-B287-4F4E-81F4-93ADAC58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4FDE4-8DB5-4DE0-95E7-47E8ED0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49FC-35B2-401F-8FA8-EB61039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94DB4-67A5-4A5E-880B-A9AD301A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A3EC-6040-4363-B1C2-1ACED213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BCE-09E1-4F9E-AD48-012EFA44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4988-1BC7-4D2E-83E5-41C49FBB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3DA6-A4F5-4948-95C9-A9EB22E3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437F-42D0-4A5C-A2E1-E14DA8B6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59CA-1EF5-423A-AACD-B8C4EA1C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069B5-0305-4DC5-A9D0-50C9ECB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AD5AC-3ED2-4A14-994D-1454854E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18831-778D-47DF-BB9F-D1EBABF4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32FD-1364-4AF9-B34C-8489E95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A1AC-5630-48D4-9BB5-64C0906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244F-31F0-4643-BCB2-8F3120A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1D0-0F0E-446C-B6F2-24D8D65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202A2-9708-4FFF-AF3D-E0C5C7F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0F747-EA6F-44C5-A7FB-E0E061DE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03F4-D260-4D0D-8CA1-9C1A9A61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4B31-E44F-4F99-BE9B-63BE017C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0AB3C-4B62-4F9D-8993-5CE2BFD9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C7A7-AD1D-4EE3-8A3B-566DE10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F4F2-78B3-4DB2-9342-6E12C76B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91719-42D1-4F6D-A5A1-36B958C2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39CDF-5EBE-48E1-BD37-0EA243A3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E4A4-A1C7-434F-BC3D-92B7F29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5F7-EEEA-435F-BE70-955D2FC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5E467-BDA6-44DE-BD07-6EA6201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1390-D2F8-4F98-9DAB-242485F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CC35-5EF1-4E0B-A806-820ECC70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D2F7-BC68-418C-8F69-5DCB139B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C660-4B52-4F85-B496-F188BA3A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7EF7-8E1E-4F61-9D26-F14A6899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92E3E-B917-4AF7-8F5B-3BCAB3D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18AE-D049-4F5A-BB3A-464B51A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947C8-1773-430F-94C6-A89246B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2CD0-649F-4EC2-9C7B-21021E7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876-1BE8-4C61-AB08-DFB92AB1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73A5A-FB03-4D55-A3A2-9C822606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93D9-B1BF-446F-ACF4-23B31F7B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17E3-3E66-4CCF-834E-CC42250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5E6CA-57C1-4705-AC7C-C1312CD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1A2B7-4C23-4591-8663-4FDEE33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BD729-8E12-4238-8D50-94908EEC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8731-4FB7-4182-88F1-C07103DB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398FB-65C2-48E5-B055-19B382E6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82E1A-A8B3-4D00-82A7-E921FAF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D9D24-C3B8-4A00-ADF0-5A001A6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279E-A52B-4584-B2A2-19DE3F06E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B34-D202-43B7-B46D-50F10C165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8BE-7546-4A9B-9B4B-9E49D5573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9ACD-9B5D-4FF6-A53E-65603CD14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D530-672B-4642-8271-02F1A5601F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EE78-9E05-4803-94C3-11F67F68A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425-95D3-47AC-9117-6ABA673756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0387-47BE-413C-9C26-DE4137B83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D70E-24D4-4364-B411-6756A5B45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82A-1519-4FE6-A38C-62C973876B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E5F-6F99-4862-8430-C074A00AE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838-958D-44EE-A39B-D7CB106FB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C387-023A-42A1-B125-2B38BC267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8A1-C358-4008-A8C3-2C74AFE654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0B7-350A-4F06-9F68-5DE89A6F0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0A0-3592-4291-8AB7-1B8F99BEC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A4C-925D-4EF9-94EF-989A23BC9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949A-034D-4524-BABB-7F4B282762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64B2-E088-4BEF-9D97-75EC14DF0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7EDA-950E-47FA-B010-982DDCC3E1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EA02-1585-47B8-9531-C24223016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934F-6AE2-4D31-8B83-B662D5954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573F-C9CF-4EBF-B686-9B10EE3DA2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B8D-6F54-4570-A315-01D45CF32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887-1D6A-41E8-A042-1EA97A5D4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302-1958-49E3-9ED6-750D47A543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387-D07D-4D25-AEA5-B775951105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EEA-999B-4EE2-9739-D78FE8F8F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0D6E-13DF-46C7-B625-386BE3D9B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C78-6020-401D-AD98-248C64963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18D-B105-40D6-8DF5-C23ADD10A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B8B4-99A1-4BBE-8A08-0BE398BE8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3E2-B24C-46FB-A9C9-52BD0C009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DDF6-B6B7-422F-B02B-2BD318600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5B93-C292-44B3-BE6E-B37D9898D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B678-B4FF-45B6-A655-66C3FBFF77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BA1C-1C45-4209-9BB3-911C9A3ED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37E1-0DAB-4A8B-A65D-6C9EDF139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7835-9526-4C88-B2F5-38B9D1FB80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A6F6-0DB6-4026-9CE2-B6578A296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1920" y="2571840"/>
            <a:ext cx="9018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1195560" y="2228760"/>
            <a:ext cx="6752880" cy="240048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12290" descr=""/>
          <p:cNvPicPr/>
          <p:nvPr/>
        </p:nvPicPr>
        <p:blipFill>
          <a:blip r:embed="rId2"/>
          <a:stretch/>
        </p:blipFill>
        <p:spPr>
          <a:xfrm>
            <a:off x="1476360" y="2660760"/>
            <a:ext cx="503280" cy="47124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12291" descr=""/>
          <p:cNvPicPr/>
          <p:nvPr/>
        </p:nvPicPr>
        <p:blipFill>
          <a:blip r:embed="rId3"/>
          <a:stretch/>
        </p:blipFill>
        <p:spPr>
          <a:xfrm>
            <a:off x="1504800" y="386064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9" name="图片 1" descr=""/>
          <p:cNvPicPr/>
          <p:nvPr/>
        </p:nvPicPr>
        <p:blipFill>
          <a:blip r:embed="rId1"/>
          <a:stretch/>
        </p:blipFill>
        <p:spPr>
          <a:xfrm>
            <a:off x="171360" y="1252440"/>
            <a:ext cx="8801280" cy="43531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2"/>
          <a:stretch/>
        </p:blipFill>
        <p:spPr>
          <a:xfrm>
            <a:off x="826920" y="165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826920" y="2435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7" name="图片 2" descr=""/>
          <p:cNvPicPr/>
          <p:nvPr/>
        </p:nvPicPr>
        <p:blipFill>
          <a:blip r:embed="rId1"/>
          <a:stretch/>
        </p:blipFill>
        <p:spPr>
          <a:xfrm>
            <a:off x="42840" y="1628640"/>
            <a:ext cx="9056880" cy="3600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757080" y="2171880"/>
            <a:ext cx="7628040" cy="2514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1116000" y="214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1116000" y="2968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09760" y="1181160"/>
            <a:ext cx="2333880" cy="4190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385920" y="2219400"/>
            <a:ext cx="8370720" cy="2419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04292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4292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042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042920" y="3889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042920" y="4321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471600" y="1671480"/>
            <a:ext cx="8199360" cy="3515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54764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759636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547640" y="48261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4572000" y="48261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204920" y="876240"/>
            <a:ext cx="6734160" cy="5105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908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90800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190800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733320" y="1490760"/>
            <a:ext cx="7677360" cy="3876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7178760" y="301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7812000" y="301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7164360" y="348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716436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781200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7164360" y="44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7149960" y="489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9"/>
          <a:stretch/>
        </p:blipFill>
        <p:spPr>
          <a:xfrm>
            <a:off x="7740720" y="4897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90680" y="2052720"/>
            <a:ext cx="8161200" cy="2752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118728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187280" y="345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118728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118728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366840" y="1200240"/>
            <a:ext cx="8408880" cy="445752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9218" descr=""/>
          <p:cNvPicPr/>
          <p:nvPr/>
        </p:nvPicPr>
        <p:blipFill>
          <a:blip r:embed="rId2"/>
          <a:stretch/>
        </p:blipFill>
        <p:spPr>
          <a:xfrm>
            <a:off x="1116000" y="3097080"/>
            <a:ext cx="1382760" cy="4446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9219" descr=""/>
          <p:cNvPicPr/>
          <p:nvPr/>
        </p:nvPicPr>
        <p:blipFill>
          <a:blip r:embed="rId3"/>
          <a:stretch/>
        </p:blipFill>
        <p:spPr>
          <a:xfrm>
            <a:off x="4211640" y="3097080"/>
            <a:ext cx="1440000" cy="44460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9220" descr=""/>
          <p:cNvPicPr/>
          <p:nvPr/>
        </p:nvPicPr>
        <p:blipFill>
          <a:blip r:embed="rId4"/>
          <a:stretch/>
        </p:blipFill>
        <p:spPr>
          <a:xfrm>
            <a:off x="7337520" y="3097080"/>
            <a:ext cx="1382760" cy="4446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9221" descr=""/>
          <p:cNvPicPr/>
          <p:nvPr/>
        </p:nvPicPr>
        <p:blipFill>
          <a:blip r:embed="rId5"/>
          <a:stretch/>
        </p:blipFill>
        <p:spPr>
          <a:xfrm>
            <a:off x="1144440" y="5229360"/>
            <a:ext cx="1382760" cy="44424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9222" descr=""/>
          <p:cNvPicPr/>
          <p:nvPr/>
        </p:nvPicPr>
        <p:blipFill>
          <a:blip r:embed="rId6"/>
          <a:stretch/>
        </p:blipFill>
        <p:spPr>
          <a:xfrm>
            <a:off x="4254480" y="5229360"/>
            <a:ext cx="138276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324000" y="1038240"/>
            <a:ext cx="8496000" cy="47815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9716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6"/>
          <a:stretch/>
        </p:blipFill>
        <p:spPr>
          <a:xfrm>
            <a:off x="97164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8" name="图片 1" descr=""/>
          <p:cNvPicPr/>
          <p:nvPr/>
        </p:nvPicPr>
        <p:blipFill>
          <a:blip r:embed="rId1"/>
          <a:stretch/>
        </p:blipFill>
        <p:spPr>
          <a:xfrm>
            <a:off x="819000" y="1371600"/>
            <a:ext cx="7506000" cy="41148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1266" descr=""/>
          <p:cNvPicPr/>
          <p:nvPr/>
        </p:nvPicPr>
        <p:blipFill>
          <a:blip r:embed="rId2"/>
          <a:stretch/>
        </p:blipFill>
        <p:spPr>
          <a:xfrm>
            <a:off x="1547640" y="22701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1267" descr=""/>
          <p:cNvPicPr/>
          <p:nvPr/>
        </p:nvPicPr>
        <p:blipFill>
          <a:blip r:embed="rId3"/>
          <a:stretch/>
        </p:blipFill>
        <p:spPr>
          <a:xfrm>
            <a:off x="1547640" y="345744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11268" descr=""/>
          <p:cNvPicPr/>
          <p:nvPr/>
        </p:nvPicPr>
        <p:blipFill>
          <a:blip r:embed="rId4"/>
          <a:stretch/>
        </p:blipFill>
        <p:spPr>
          <a:xfrm>
            <a:off x="1547640" y="4638600"/>
            <a:ext cx="5032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6:0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